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A5E0-0746-42DE-9B9D-C0594DDA2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756C-0065-456A-93F9-C191AB6B1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2C8E-CF52-4E5F-B69A-19B8F835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6F79-C4AC-4C77-9192-FC135B5F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C4AB-B0E1-4BDC-9009-8EF2A1F2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046-8C9F-4E03-A4E9-F4631BEF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CC39-0414-41D5-8725-094D36DE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5FF0-F645-4ED9-B221-4A66659E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CAD-306A-4915-8E45-76C1DDD6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84A2-919E-4945-AC64-E1EB65DB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223-4BAB-4FC4-A844-A8A36460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FCCC-223B-47E2-8DF0-D6F44A59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6BFA-F6CE-45A9-8A92-0459DC48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7CA9-1401-4767-9C79-336F6AAD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3055-D551-45D2-A447-1593DDE92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tephanie Fabri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Stephanie Fabriz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Stephanie Fabriz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Stephanie Fabri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Stephanie Fabriz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22860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22860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228600" y="5562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28600" y="4495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76320" y="53341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8600" y="3429000"/>
            <a:ext cx="16765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nombre es Stephani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Yo vivo en new york city. Yo tengo catorce años. Sí, tengo 3 hermanos. Soy feliz. Aidos amigo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334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ttan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2485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rald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0880" y="5334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962520"/>
            <a:ext cx="41148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m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Yo estoy aburrida. Tu eres muy alta. Tengo trabajar manana. Mucho gusto dia!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276720"/>
            <a:ext cx="44956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   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Mer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oy cansadas! La escuela es dificil! Tu mira muy bonita dia! Donde estas manana?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Brittan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Hola! Yo soy muy ocupada! Como estas hermano? Enfermo? Mi perro es muy grand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mentario:      1 hour ago.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95480" y="4572000"/>
            <a:ext cx="60199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! Tu foto es nuevo? MI papa es trayendo yo a tu casa manana! Tengo que preguntarle a mi ma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971800" y="5181480"/>
            <a:ext cx="472428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sm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uestras prueba es manana! Estas loca? Nuestra mente para dormir! No puedo ir m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895480" y="6019920"/>
            <a:ext cx="52578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erald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as tenemos que espera para gemelas! Cual casa? Por que vamos? Ciao! Hasta luego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819520" y="190512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das! Como estas? Puedes venir a mi ca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992520" y="624852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057400" y="5943600"/>
            <a:ext cx="609480" cy="587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28600" y="5638680"/>
            <a:ext cx="457200" cy="609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981080" y="25146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62120" y="487692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2057400" y="38862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1447920" y="4952880"/>
            <a:ext cx="533160" cy="400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2057400" y="449568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152280" y="487692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2057400" y="5181480"/>
            <a:ext cx="787320" cy="525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914400" y="5715000"/>
            <a:ext cx="685800" cy="54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533520" y="380880"/>
            <a:ext cx="7426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Brittany</cp:lastModifiedBy>
  <dcterms:modified xsi:type="dcterms:W3CDTF">2012-12-05T21:22:46Z</dcterms:modified>
  <cp:revision>106</cp:revision>
  <dc:subject/>
  <dc:title>Profile</dc:title>
</cp:coreProperties>
</file>